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5C0A-3884-40D3-96F9-956B37D6D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B18B-9054-453B-8CCB-8C4922B20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803E-475C-44D1-A746-FC5B9896C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D0E1-8D58-4A90-AECB-BABE737DA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C865-C296-4337-930B-59C911DFA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0E12-C174-4FD2-81F7-974BF8A8F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9129-DD7F-428C-9AE4-CFE5D6F53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0F90-7CA0-49BA-B7EF-718143F4D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539A-CF60-42D9-9737-AD5074AFA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C695-9047-4A06-A615-1B102AE3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AEA8-8EEC-4761-AF14-A323386A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1E65-180E-4DF0-91D5-403262B1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716DF-37D6-4955-9E2D-9E7711D13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 The equation of the vibrations of the note F above middle C is represented by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.5 sin 698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π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Determine the amplitude and period for the function.  Explain why it would be difficult to graph this function by h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ph the function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cos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- sin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457200" y="1600200"/>
          <a:ext cx="34974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34974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" name=""/>
          <p:cNvGrpSpPr/>
          <p:nvPr/>
        </p:nvGrpSpPr>
        <p:grpSpPr>
          <a:xfrm>
            <a:off x="3885840" y="3124080"/>
            <a:ext cx="5257800" cy="1274760"/>
            <a:chOff x="3885840" y="3124080"/>
            <a:chExt cx="5257800" cy="1274760"/>
          </a:xfrm>
        </p:grpSpPr>
        <p:sp>
          <p:nvSpPr>
            <p:cNvPr id="80" name=""/>
            <p:cNvSpPr/>
            <p:nvPr/>
          </p:nvSpPr>
          <p:spPr>
            <a:xfrm>
              <a:off x="5486400" y="3124080"/>
              <a:ext cx="0" cy="1274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3885840" y="3670200"/>
              <a:ext cx="5257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1440" bIns="-9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State the amplitude, period, and graph the function: 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-4 cos 2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πx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mplitude: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period: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914040" y="2971800"/>
            <a:ext cx="5257800" cy="1343160"/>
            <a:chOff x="914040" y="2971800"/>
            <a:chExt cx="5257800" cy="1343160"/>
          </a:xfrm>
        </p:grpSpPr>
        <p:sp>
          <p:nvSpPr>
            <p:cNvPr id="46" name=""/>
            <p:cNvSpPr/>
            <p:nvPr/>
          </p:nvSpPr>
          <p:spPr>
            <a:xfrm>
              <a:off x="2514600" y="2971800"/>
              <a:ext cx="0" cy="134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914040" y="3547440"/>
              <a:ext cx="5257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1440" bIns="-9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the amplitude, period, translation, and graph the functions: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mplitude: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eriod: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ransl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914040" y="3429000"/>
            <a:ext cx="5257800" cy="1343160"/>
            <a:chOff x="914040" y="3429000"/>
            <a:chExt cx="5257800" cy="1343160"/>
          </a:xfrm>
        </p:grpSpPr>
        <p:sp>
          <p:nvSpPr>
            <p:cNvPr id="51" name=""/>
            <p:cNvSpPr/>
            <p:nvPr/>
          </p:nvSpPr>
          <p:spPr>
            <a:xfrm>
              <a:off x="2514600" y="3429000"/>
              <a:ext cx="0" cy="134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914040" y="4004640"/>
              <a:ext cx="5257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1440" bIns="-9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mplitude: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period: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translat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218960" y="3733920"/>
            <a:ext cx="5257800" cy="1274760"/>
            <a:chOff x="1218960" y="3733920"/>
            <a:chExt cx="5257800" cy="1274760"/>
          </a:xfrm>
        </p:grpSpPr>
        <p:sp>
          <p:nvSpPr>
            <p:cNvPr id="55" name=""/>
            <p:cNvSpPr/>
            <p:nvPr/>
          </p:nvSpPr>
          <p:spPr>
            <a:xfrm>
              <a:off x="2819520" y="3733920"/>
              <a:ext cx="0" cy="1274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1218960" y="4280040"/>
              <a:ext cx="5257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1440" bIns="-9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79412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the amplitude and period 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3 sin 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Then graph the function.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mplitude: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eriod: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ransl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294920" y="3733920"/>
            <a:ext cx="5257800" cy="1274760"/>
            <a:chOff x="1294920" y="3733920"/>
            <a:chExt cx="5257800" cy="1274760"/>
          </a:xfrm>
        </p:grpSpPr>
        <p:sp>
          <p:nvSpPr>
            <p:cNvPr id="61" name=""/>
            <p:cNvSpPr/>
            <p:nvPr/>
          </p:nvSpPr>
          <p:spPr>
            <a:xfrm>
              <a:off x="2895480" y="3733920"/>
              <a:ext cx="0" cy="1274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1294920" y="4280040"/>
              <a:ext cx="5257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1440" bIns="-9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 State the amplitude and period 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-1/3 cos 3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Then graph the function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mplitude: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eriod: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ransl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761760" y="3124080"/>
            <a:ext cx="5257800" cy="1274760"/>
            <a:chOff x="761760" y="3124080"/>
            <a:chExt cx="5257800" cy="1274760"/>
          </a:xfrm>
        </p:grpSpPr>
        <p:sp>
          <p:nvSpPr>
            <p:cNvPr id="66" name=""/>
            <p:cNvSpPr/>
            <p:nvPr/>
          </p:nvSpPr>
          <p:spPr>
            <a:xfrm>
              <a:off x="2362320" y="3124080"/>
              <a:ext cx="0" cy="1274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761760" y="3670200"/>
              <a:ext cx="5257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1440" bIns="-9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 Determine whether the equation for the graph shown has the for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wi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). Then fi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80769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  Write an equation of the sine function with amplitude 30, period 3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4, phase shif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2, and vertical shift -2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 Write an equation of the cosine function with amplitude 3.5, perio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2, phase shif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4, and vertical shift 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14:43:54Z</dcterms:created>
  <dc:creator>abeason</dc:creator>
  <dc:description/>
  <dc:language>en-US</dc:language>
  <cp:lastModifiedBy>abeason</cp:lastModifiedBy>
  <dcterms:modified xsi:type="dcterms:W3CDTF">2008-10-23T14:44:10Z</dcterms:modified>
  <cp:revision>1</cp:revision>
  <dc:subject/>
  <dc:title>Slide 1</dc:title>
</cp:coreProperties>
</file>